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90F8-F14C-433E-B751-1B2A663F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498-F8D0-497F-96DF-8629ED77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7D4-D816-4DC1-A4A6-935C3AD3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CE4-5A1D-46B7-9F38-441056FD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44F-ED22-4ED7-BFAC-B2318BA0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C67-6E73-4D98-BD90-5EE35673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F5A-0958-4C77-B8A9-386BFC18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B13-3241-4F18-9416-1D8A681A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A02-B026-44ED-868C-D0E9AAD4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7F0-EC14-41EE-A541-07BEAEA8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E35-9EE2-4D77-B350-EE550022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34C-EE32-47BB-B42D-4E710F73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E081-A6B5-4568-B309-8A73BBAAC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: Lindsey Kl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152280"/>
            <a:ext cx="7848360" cy="32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air Spra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ir Spray Works Bet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redict that White Rain hair spray will work better than Ra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hink it will work better because it works really good when I use 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gi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ir sp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ling i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ir b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 I’m going to brush the girls hair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 I’m going to curl there h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rd I’m going to spray there hair with hair sp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 I’m going to wait until last hour class to see if there hair has stay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th I will determine what hair spray works b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4120" y="342900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hypothesis was wrong. The White Rain hair spray did not hold very well at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ve hair spray works really good it held the curls all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1:21:45Z</dcterms:created>
  <dc:creator> Kristi</dc:creator>
  <dc:description/>
  <dc:language>en-US</dc:language>
  <cp:lastModifiedBy>STERLING  USD376</cp:lastModifiedBy>
  <dcterms:modified xsi:type="dcterms:W3CDTF">2010-05-06T19:53:08Z</dcterms:modified>
  <cp:revision>7</cp:revision>
  <dc:subject/>
  <dc:title>Hair Spray</dc:title>
</cp:coreProperties>
</file>